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F49-185A-4D89-B584-C91AC347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238-B684-4EF7-94E8-9CB3F928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971-CFCD-4B8F-B0D5-B6D4AE1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829-2E22-42AA-8848-EA56FCE6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B09E-C8FF-4AF3-B197-6C750636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826-0705-497D-B3E6-0B0A1FB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CC4-5FBB-47E2-82C7-1DCA5D89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2D7-3281-4524-AAE1-0756E13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EAF-6858-4C4B-9729-D61ED39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64F4-D166-4E23-9AEA-7C5E10B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A5F1-FA63-4A01-A6D6-D2D76F4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8BF-E0FC-44FB-B18B-361199CD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B3D6-BF2E-471E-975F-CF2E976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ADA0-B7D7-4ADD-B48E-5456843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7FB7-6D40-4C10-860E-356A22CA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D9A2-B5F7-4EFC-8B13-31797E9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1371-9AA7-4FE9-9DD5-0899A627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B6A-70C4-44AC-9295-BF97701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125-B270-4A82-A526-9E079182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42D-4674-40E1-9DCE-71E13E3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8F5-FFDE-4FEA-AF82-DDE83C29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44B-5226-4578-B485-56829B0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D78-0D8C-4225-AB6D-243E4FB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B9B-E4CD-46B2-AB48-472FC18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DDEC-D9BB-46D7-A49F-33F5EA022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AD04-E81E-4A94-9C03-7ACDFEA32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Edwardian Script ITC"/>
              </a:rPr>
              <a:t>Mi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Por: marialycia gue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943600" cy="405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pis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31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piscina es grande mode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572000" cy="3039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38680" y="4395960"/>
            <a:ext cx="3276720" cy="2462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22928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09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garaje es estupe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66880" y="2662200"/>
            <a:ext cx="6229440" cy="419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din es viejo e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1944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29000" y="376560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an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2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mansion es grande e mor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2200320"/>
            <a:ext cx="6324840" cy="46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87160" y="1601280"/>
            <a:ext cx="2971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 La cocina es pequena y mode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2003400"/>
            <a:ext cx="6019920" cy="4854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124080" y="2092320"/>
            <a:ext cx="6019920" cy="476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. El comedor es fabuloso  y bo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fine dining design stylish modern interior decoration 1 Choose your dining room table"/>
          <p:cNvPicPr/>
          <p:nvPr/>
        </p:nvPicPr>
        <p:blipFill>
          <a:blip r:embed="rId1"/>
          <a:stretch/>
        </p:blipFill>
        <p:spPr>
          <a:xfrm>
            <a:off x="29718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213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. La sala es lujoso y bel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green modern living room renovations and cool design"/>
          <p:cNvPicPr/>
          <p:nvPr/>
        </p:nvPicPr>
        <p:blipFill>
          <a:blip r:embed="rId1"/>
          <a:stretch/>
        </p:blipFill>
        <p:spPr>
          <a:xfrm>
            <a:off x="2438280" y="2390760"/>
            <a:ext cx="6705720" cy="446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uarto. El cuarto es morderno 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2801880"/>
            <a:ext cx="6172200" cy="405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971800" y="2803680"/>
            <a:ext cx="6172200" cy="405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fabulous teenage bedroom decor designs"/>
          <p:cNvPicPr/>
          <p:nvPr/>
        </p:nvPicPr>
        <p:blipFill>
          <a:blip r:embed="rId3"/>
          <a:stretch/>
        </p:blipFill>
        <p:spPr>
          <a:xfrm>
            <a:off x="2971800" y="2825640"/>
            <a:ext cx="6172200" cy="403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895480" y="2523960"/>
            <a:ext cx="6248520" cy="433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31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uarto es pequena y nue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2455920"/>
            <a:ext cx="6324480" cy="440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601280"/>
            <a:ext cx="2631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ño. El baño es bello y lujo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851200"/>
            <a:ext cx="6172200" cy="4006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pequena y magnif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892160"/>
            <a:ext cx="5562360" cy="4965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14600" y="18860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04:20Z</dcterms:created>
  <dc:creator>guedesmar</dc:creator>
  <dc:description/>
  <dc:language>en-US</dc:language>
  <cp:lastModifiedBy>guedesmar</cp:lastModifiedBy>
  <dcterms:modified xsi:type="dcterms:W3CDTF">2012-11-21T13:03:16Z</dcterms:modified>
  <cp:revision>8</cp:revision>
  <dc:subject/>
  <dc:title>Mi casa</dc:title>
</cp:coreProperties>
</file>